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88FB-1DF6-4714-8880-5E39D7FFD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7A65-F76D-4F1B-8A47-D81BED3C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C229-E6D1-4064-99FB-10127222A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6A2D-427B-4942-8C97-E3604598B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37E6-B9D1-47E1-8973-922E1BAC4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42F4-2E5F-446D-9F53-CE475676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97B3-37D0-41FB-97FE-C902E0CE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86E7-A7FE-4C7A-9D8B-5E1D7CCC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6E75-8C07-4CD4-8097-A486DC47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CD86-5588-4FCD-A17F-414183DD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3219-FA87-4118-A273-CD9C9912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F611-4D47-4AEF-A16F-A4AED572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9BB1-FF60-45D2-ACB2-3E4F03E1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63D5-A3FB-432B-9584-3AB10828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7D0B-C59F-4B5D-889C-3E69C585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9D26-8105-4F66-BCBB-5B218C861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11B9A-3CBE-43E4-BBA2-D66E36A1C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34FBB-A624-45FC-9D0C-8A4A36722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EF477-CB43-46E9-8925-7CBE9750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ED0AF-16F4-4702-87FF-5D32D8AA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47F38-C680-476B-9C5E-21FC4E80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66369-A698-44F2-9622-BE026771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8141-CA00-4557-8A0E-821B0139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634AA-08F2-497F-AC15-CE6AD027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FFF52-BC72-49EF-93E9-918F49C0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840D4-2B20-452E-90FA-FF553981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AC5C4-6EE5-4FF5-9FA4-B7A0F97F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ED369-E2DF-4843-A9A6-6FF67DD7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7C116-8176-4DC4-BC60-431A0E4EA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AD8A4-FCB6-44B2-80F4-970CF66C5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70EC-9E96-4BB3-913C-91A22350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AC15-7776-4E37-B14F-E5EB5EB6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9147-4DDC-4CDF-8C46-46E74644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09EA-F5FF-4651-BD93-1CDC9762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961B-5955-48B2-800D-E314E7A4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4C36-73C8-4AAE-9FAB-C9BC34FD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D269-D6B3-453A-BA99-F92698E8A9C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E850-62BB-4746-93D1-59F7A73BB594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8532720" y="4437000"/>
          <a:ext cx="365040" cy="2227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32720" y="4437000"/>
                    <a:ext cx="365040" cy="22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867280" y="6165720"/>
            <a:ext cx="194328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9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1464-C91B-40F1-84BC-4D446F66475D}" type="slidenum">
              <a:rPr b="0" lang="de-DE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Glücksspielprävention in Lünebur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erspielte Jugend 26.06.200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Holger Komoß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Bisherige Erfahrunge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stiegene Anfragen durch Schu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ternberat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ratung von betroffenen Jugendlich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ternaben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rchführung von Elternschul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olger Komoß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ahoma"/>
              </a:rPr>
              <a:t>Vielen Dank für ihre Aufmerksamkeit !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olger Komoß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Bundesverfassungsgericht vom 28.03.2006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Zitat aus dem Urtei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„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n staatliches Monopol für Sportwetten ist mit dem Grundrecht der Berufsfreiheit des Art. 12 Abs. 1 GG nur vereinbar, wenn es konsequent am Ziel der Bekämpfung von Suchtgefahren ausgerichtet ist.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olger Komoß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Folgen des Urtei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ür eine Monopolisierung des Glücksspiels werden in dem Bundesverfassungsurteil folgende Gründe angeführ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e Begrenzung und Ordnung des Wettwesens, mit der Absicht die Spiel- und Wettsucht zu bekämpfen, ist ein zentrales Ziel des Gemeinwoh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portwetten mit festen Gewinnquoten bergen die Gefahr der Abhängigkeitsentwicklung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r Gesetzgeber hat demzufolge, gerade im Hinblick auf de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Jugendschutz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ie Aufgabe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vorbeuge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zu wirk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olger Komoß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taatsvertrag zum Glücksspielwesen in Deutschland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meidung und Bekämpfung der Glücksspielsuc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nalisierung und Begrenzung des Glücksspielangebo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währleistung des Jugend- und Spielerschut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cherstellung eines fairen Spiels und Schutz vor Kriminalitä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olger Komoß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Umsetzung in Niedersachse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richtung von 24 halben Stellen in Niedersach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ordination durch die Niedersächsische Landesstelle für Suchtfragen (NL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halbe Stelle in Lünebur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ufzeit ab 1.1.2008 für 4 Jah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olger Komoß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Konkrete Aufgabe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sveranstaltungen an Schulen, in Betrieben us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netzung der Hilfsangebo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ratung von Betroffenen und deren Angehöri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stellung von Informationsmate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olger Komoß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71640" y="2060640"/>
            <a:ext cx="684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„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Das ist Stress! Das ist regelrechter Stress. Man kann nachts schon nicht mehr richtig schlafen. Das erste, wenn man morgens aufwacht: Wo kriegst du heute Geld weg? Hast Du schon nachgeguckt?.... Dann ist man morgens vor der Arbeit noch am Fernseher, Videotext-, Wie haben die Amerikaner gespielt (Eishockeyliga)? Das ist hochgradiger Stress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olger Komoß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Tahoma"/>
              </a:rPr>
              <a:t>Online - Gambling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Das erste Online-Casino gibt es seit August 199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Zur Zeit gibt es etwa 2.500 Websites mit Glücksspielangebo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Ein Großteil privater Glücksspielunternehmen hat den Geschäftssitz in Ländern, in denen das Online-Gambling toleriert w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Der Geldtransfer findet in der Regel über Kreditkarten, Pre-Paid-Cards oder Online-Zahlungssysteme stat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olger Komoß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Tahoma"/>
              </a:rPr>
              <a:t>Online –Gambling Jugendlicher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instieg über Freecell-Pok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Jugendliche bewegen sich wie selbstverständlich im Net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om Freecell zum Paypok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Problematisches Verhalten bereits über andere Onlinespiele erler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olger Komoß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07:35:05Z</dcterms:created>
  <dc:creator>Menke</dc:creator>
  <dc:description/>
  <dc:language>en-US</dc:language>
  <cp:lastModifiedBy>Menke</cp:lastModifiedBy>
  <dcterms:modified xsi:type="dcterms:W3CDTF">2008-06-25T10:59:59Z</dcterms:modified>
  <cp:revision>7</cp:revision>
  <dc:subject/>
  <dc:title>Glücksspielprävention in Lüneburg</dc:title>
</cp:coreProperties>
</file>