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48769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415040"/>
            <a:ext cx="48769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456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41504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84560" y="441504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334240" y="274320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983040" y="274320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41504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334240" y="441504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983040" y="441504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274320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237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4560" y="2743200"/>
            <a:ext cx="237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84560" y="2743200"/>
            <a:ext cx="237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441504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274320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237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8456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84560" y="441504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8456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4415040"/>
            <a:ext cx="48769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48769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4415040"/>
            <a:ext cx="48769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56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441504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184560" y="441504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334240" y="274320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983040" y="274320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441504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334240" y="441504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3983040" y="4415040"/>
            <a:ext cx="156996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237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184560" y="2743200"/>
            <a:ext cx="237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184560" y="2743200"/>
            <a:ext cx="237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41504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237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8456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84560" y="441504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84560" y="2743200"/>
            <a:ext cx="2379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415040"/>
            <a:ext cx="48769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241200"/>
            <a:ext cx="88390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274320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0" t="66327" r="0" b="0"/>
          <a:stretch/>
        </p:blipFill>
        <p:spPr>
          <a:xfrm>
            <a:off x="3581280" y="6248520"/>
            <a:ext cx="4114800" cy="326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rcRect l="0" t="0" r="0" b="8335"/>
          <a:stretch/>
        </p:blipFill>
        <p:spPr>
          <a:xfrm>
            <a:off x="8001000" y="5791320"/>
            <a:ext cx="947880" cy="911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rcRect l="0" t="0" r="0" b="39783"/>
          <a:stretch/>
        </p:blipFill>
        <p:spPr>
          <a:xfrm>
            <a:off x="228600" y="6248520"/>
            <a:ext cx="3124080" cy="44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614320" y="520560"/>
            <a:ext cx="59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Mobile Jugendarbeit in Nordniedersach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2096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66327" r="0" b="0"/>
          <a:stretch/>
        </p:blipFill>
        <p:spPr>
          <a:xfrm>
            <a:off x="3581280" y="6248520"/>
            <a:ext cx="4114800" cy="32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0" r="0" b="8335"/>
          <a:stretch/>
        </p:blipFill>
        <p:spPr>
          <a:xfrm>
            <a:off x="8001000" y="5791320"/>
            <a:ext cx="947880" cy="91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39783"/>
          <a:stretch/>
        </p:blipFill>
        <p:spPr>
          <a:xfrm>
            <a:off x="228600" y="6248520"/>
            <a:ext cx="3124080" cy="44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438280" y="2209680"/>
            <a:ext cx="4133880" cy="205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cleanscreen.d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cleanscreen.de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Herzlich Willkomme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42720" y="4876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Mobile Jugendarbeit in Nordniedersachs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sere Medienangebot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Digital-Video </a:t>
            </a: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(Kurzfilme, Dokumentationen, Animationsfilme, Schnitttechniken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Digital-Foto</a:t>
            </a: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 (Fotografie, Bildbearbeitung, Bildergeschichten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Digital-Audio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(Musik, Hörspiele, Radi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Internetschulungen </a:t>
            </a: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(www. e-Mail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Internetseitengestaltung</a:t>
            </a:r>
            <a:r>
              <a:rPr b="0" lang="de-DE" sz="1600" spc="-1" strike="noStrike">
                <a:solidFill>
                  <a:srgbClr val="000000"/>
                </a:solidFill>
                <a:latin typeface="Trebuchet MS"/>
              </a:rPr>
              <a:t> (HTML, Flash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Computer Hard- und Softwaretrain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2641680"/>
            <a:ext cx="321300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Kooperations-Projekt: CLEANSCREE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Mein Handy bleibt sauber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in Zusammenarbeit mit de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AK Jugendschutz zum Thema: „Happy Slapping Videos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Projekte für Jugendlic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Video und Com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Infoveranstaltungen für Elter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Infoveranstaltungen für MultiplikatorInn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689280" cy="368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6200000">
            <a:off x="6820920" y="3148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Trebuchet MS"/>
              </a:rPr>
              <a:t>http://www.cleanscree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Kooperations-Projekt: CLEAN SCREE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Kampagnenvideo 1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689280" cy="3689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rot="16200000">
            <a:off x="6821280" y="31431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Trebuchet MS"/>
              </a:rPr>
              <a:t>http://www.cleanscree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666880"/>
            <a:ext cx="396252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3429000"/>
            <a:ext cx="3200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lm kann 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cleanscree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geseh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Kooperations-Projekt: CLEAN SCREE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Kampagnenvideo 2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689280" cy="368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16200000">
            <a:off x="6820920" y="31449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Trebuchet MS"/>
              </a:rPr>
              <a:t>http://www.cleanscree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666880"/>
            <a:ext cx="396252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3429000"/>
            <a:ext cx="3200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lm kann 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cleanscree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gesehen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uchungsbedingunge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5181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Abrechnung erfolgt Tagewei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Projektzeit vor Ort = 6 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Preise nach Absprac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für Videoprojekte sollten 5 Tage eingeplant werden, für Foto- und Audioprojekte 3 Ta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ein Raum mit Strom- und Internetanschluss sollte vorhanden se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217188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erzlichen Dank für Ihre Aufmerksamkei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MOBiRED // SJD - Die Falk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Lauensteinstr. 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21339 Lünebur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Büro: 04131-77883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www.mobile-medienarbeit.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2171880" cy="2210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Was ist MOB</a:t>
            </a:r>
            <a:r>
              <a:rPr b="1" lang="de-DE" sz="3200" spc="-1" strike="noStrike">
                <a:solidFill>
                  <a:srgbClr val="ff0900"/>
                </a:solidFill>
                <a:latin typeface="Trebuchet MS"/>
              </a:rPr>
              <a:t>iRED</a:t>
            </a: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ein Projekt der verbandlichen Jugendarbe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in Trägerschaft des Jugendverband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SJD - Die Falken (Bezirk Hannover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hauptamtliche &amp; ehrenamtliche MitarbeiterInn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bestehend aus den beiden Teilprojekten „</a:t>
            </a:r>
            <a:r>
              <a:rPr b="0" lang="de-DE" sz="2000" spc="-1" strike="noStrike">
                <a:solidFill>
                  <a:srgbClr val="ff0900"/>
                </a:solidFill>
                <a:latin typeface="Trebuchet MS"/>
              </a:rPr>
              <a:t>digilog ‘n‘ media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“ und „</a:t>
            </a:r>
            <a:r>
              <a:rPr b="0" lang="de-DE" sz="2000" spc="-1" strike="noStrike">
                <a:solidFill>
                  <a:srgbClr val="0000ff"/>
                </a:solidFill>
                <a:latin typeface="Trebuchet MS"/>
              </a:rPr>
              <a:t>pickup ‘n‘ do</a:t>
            </a: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“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4343400" cy="3055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rebuchet MS"/>
              </a:rPr>
              <a:t>Zielgruppen vom MOB</a:t>
            </a:r>
            <a:r>
              <a:rPr b="1" lang="de-DE" sz="3200" spc="-1" strike="noStrike">
                <a:solidFill>
                  <a:srgbClr val="ff0900"/>
                </a:solidFill>
                <a:latin typeface="Trebuchet MS"/>
              </a:rPr>
              <a:t>iRED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rebuchet MS"/>
              </a:rPr>
              <a:t>Kinder und Jugendliche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mit und ohne Anbindung an eine offene Einrichtung (JUZ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Jugendtreff etc.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im Rahmen von Projekttagen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-wochen an Schul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rebuchet MS"/>
              </a:rPr>
              <a:t>die durch ihre soziostrukturelle Situation benachteiligt sind (z.B. in strukturell benachteiligten, ländlichen Regionen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62720" y="2438280"/>
            <a:ext cx="3581280" cy="3278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ethodik / Handlungsansatz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181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ir suchen die Jugendlichen dort auf, wo sie sich treff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ir arbeiten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ktiv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mithilfe von spannenden und aktuellen Medi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ir unterstützen die Adressaten sich auszuprobieren und sich auszudrüc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ir orientieren uns an ihren Wünschen, Bedürfnissen, Ängsten - allgemein mit den Themen der jungen Mensch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ir arbeiten geschlechtsspezifisc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Veranstaltungsort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inrichtungen der Jugendhilf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gendtreffs/Jugendzentr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chul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irchengemeind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inrichtungsungebunde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effpunkte von Jugendlic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d Kinder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52880" y="26416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2880" y="2463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gebots-Forme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inmalige Tagesveranstaltu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bendveranstaltu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hrtägige Projekt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ngfristige Projekt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ontinuierliche Veranstaltungen in regelmäßigen Abständ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e mit inhaltlichen Schwerpunkt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900"/>
                </a:solidFill>
                <a:latin typeface="Trebuchet MS"/>
              </a:rPr>
              <a:t>digilog ‘n‘ media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4876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bile aktive Medienarbe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enkompetenzerwer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plikatorInnen-Schulu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uterschulungen für Menschen mit und ohne Behinderun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formationsveranstaltungen für Eltern und Pädagog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äventionsarbe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30720" y="27176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900"/>
                </a:solidFill>
                <a:latin typeface="Trebuchet MS"/>
              </a:rPr>
              <a:t>Exkurs: Medienkompetenz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Kognitiv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(Wissen, Verstehen, Analysieren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Handlung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(gestalten, ausdrücken, experimentieren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oralisc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(ethische Aspekte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ozial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(soziale Auswirkungen, politische Hintergründe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ffektiv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(angemessener Umgang mit Unterhaltung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Ästhetisc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(kommunikationsästhetischer Aspekt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91320" y="3048120"/>
            <a:ext cx="2452680" cy="2946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43480" y="1884240"/>
            <a:ext cx="3481200" cy="29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900"/>
                </a:solidFill>
                <a:latin typeface="Trebuchet MS"/>
              </a:rPr>
              <a:t>Exkurs: Medienkompetenz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icht irgendeine Zusatzqualifika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vierter Bildungsbereich</a:t>
            </a: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 (neben Rechnen, Schreiben und Lesen)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ine gelungene Medienbildung umfasst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Kompetenten Umgang mit Medi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Reflexion über vorhandene Medi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ähigkeit, sich auf unbekannte Mediensituationen angemessen einstellen zu könn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1800000">
            <a:off x="5638320" y="2743200"/>
            <a:ext cx="29196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23:14:27Z</dcterms:created>
  <dc:creator>Grobi Grobi</dc:creator>
  <dc:description/>
  <dc:language>en-US</dc:language>
  <cp:lastModifiedBy>Thomas Schueler</cp:lastModifiedBy>
  <cp:lastPrinted>2008-06-19T09:29:52Z</cp:lastPrinted>
  <dcterms:modified xsi:type="dcterms:W3CDTF">2008-06-26T12:14:04Z</dcterms:modified>
  <cp:revision>10</cp:revision>
  <dc:subject/>
  <dc:title>Herzlich Willkommen</dc:title>
</cp:coreProperties>
</file>